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E80F3-A8F7-4F21-A593-45A48AADA66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643E6-E33D-461B-8793-AA0B36C9825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017C4-9C8A-46C3-ADD8-EE3BB50E4C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DBE-B5F4-434D-9B19-E2B7C088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873A-55B9-4EEC-9A89-E4E8D378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436-019F-4B45-8468-46AD4B0E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E422-C28A-4E96-AC77-F5A1F1EE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CA6-3046-4797-BFA1-8282FBF0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184F-5981-4FA9-B9E6-9CCEA9DC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2A8-1375-411A-8358-48257564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A75-44BE-49B4-9AA8-C4FEA90A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675-538A-4191-948E-C761CDF9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E90E-5DDF-4BE8-9D35-4E7DA9A8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2536-2D76-4894-98AC-1B8497A9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BC07-8DC4-4739-A8C1-305EA364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37FEF-0FD8-4EC5-9227-9D575F54F9D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1871640" y="2328840"/>
            <a:ext cx="5553000" cy="30718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1467000" y="905040"/>
            <a:ext cx="6648480" cy="1180800"/>
            <a:chOff x="1467000" y="905040"/>
            <a:chExt cx="6648480" cy="1180800"/>
          </a:xfrm>
        </p:grpSpPr>
        <p:sp>
          <p:nvSpPr>
            <p:cNvPr id="65" name="Text Box 2"/>
            <p:cNvSpPr/>
            <p:nvPr/>
          </p:nvSpPr>
          <p:spPr>
            <a:xfrm>
              <a:off x="2725920" y="1011240"/>
              <a:ext cx="538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54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黄河之水天上来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1467000" y="905040"/>
              <a:ext cx="1180800" cy="1180800"/>
              <a:chOff x="1467000" y="905040"/>
              <a:chExt cx="118080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146700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1485000" y="101124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1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"/>
          <p:cNvSpPr/>
          <p:nvPr/>
        </p:nvSpPr>
        <p:spPr>
          <a:xfrm>
            <a:off x="790560" y="3205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此句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直接抒情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由赞美黄河转而赞颂孕育了黄河的祖国大地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西北高原深深的地层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指黄河的发源地青海省巴颜喀拉山脉北麓。黄河是中华民族的摇篮，是祖国母亲的象征，所以，对黄河的赞美就是对中华民族的赞美，就是对祖国母亲的赞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组合 3"/>
          <p:cNvGrpSpPr/>
          <p:nvPr/>
        </p:nvGrpSpPr>
        <p:grpSpPr>
          <a:xfrm>
            <a:off x="873000" y="2481120"/>
            <a:ext cx="7683480" cy="560520"/>
            <a:chOff x="873000" y="2481120"/>
            <a:chExt cx="7683480" cy="560520"/>
          </a:xfrm>
        </p:grpSpPr>
        <p:sp>
          <p:nvSpPr>
            <p:cNvPr id="108" name="直接连接符 4"/>
            <p:cNvSpPr/>
            <p:nvPr/>
          </p:nvSpPr>
          <p:spPr>
            <a:xfrm>
              <a:off x="873000" y="304164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任意多边形 5"/>
            <p:cNvSpPr/>
            <p:nvPr/>
          </p:nvSpPr>
          <p:spPr>
            <a:xfrm>
              <a:off x="873000" y="2481120"/>
              <a:ext cx="768348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这句话有什么深刻含义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矩形 1"/>
          <p:cNvSpPr/>
          <p:nvPr/>
        </p:nvSpPr>
        <p:spPr>
          <a:xfrm>
            <a:off x="692280" y="1200240"/>
            <a:ext cx="794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苍莽的大地母亲啊，是你的乳汁，从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西北高原深深的地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喷涌出这一道哺育着千秋万代、子子孙孙的河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21"/>
          <p:cNvSpPr/>
          <p:nvPr/>
        </p:nvSpPr>
        <p:spPr>
          <a:xfrm>
            <a:off x="831960" y="963720"/>
            <a:ext cx="75690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直接抒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23"/>
          <p:cNvSpPr/>
          <p:nvPr/>
        </p:nvSpPr>
        <p:spPr>
          <a:xfrm>
            <a:off x="903240" y="1941480"/>
            <a:ext cx="7346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什么是直接抒情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直接抒情也叫直抒胸臆，由作者直接对有关人物和事物等表明爱憎态度，将情感直接表达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使用直接抒情有什么作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感情表达得朴实真切，震动人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直接抒情有什么答题技巧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直抒胸臆，表达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感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直线连接符 7"/>
          <p:cNvSpPr/>
          <p:nvPr/>
        </p:nvSpPr>
        <p:spPr>
          <a:xfrm>
            <a:off x="914400" y="188748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2"/>
          <p:cNvSpPr/>
          <p:nvPr/>
        </p:nvSpPr>
        <p:spPr>
          <a:xfrm>
            <a:off x="695160" y="2673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黄河的雄伟神姿令“我”震撼，令“我”惊讶，是辽阔无垠的西北高原的土地孕育了这样一条雄伟而美丽的河流。“我”赞美黄河，“我”赞美苍莽的母亲大地，赞美我们的祖国！这就是作者心中的歌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组合 3"/>
          <p:cNvGrpSpPr/>
          <p:nvPr/>
        </p:nvGrpSpPr>
        <p:grpSpPr>
          <a:xfrm>
            <a:off x="558720" y="1784520"/>
            <a:ext cx="7997760" cy="560160"/>
            <a:chOff x="558720" y="1784520"/>
            <a:chExt cx="7997760" cy="560160"/>
          </a:xfrm>
        </p:grpSpPr>
        <p:sp>
          <p:nvSpPr>
            <p:cNvPr id="116" name="直接连接符 4"/>
            <p:cNvSpPr/>
            <p:nvPr/>
          </p:nvSpPr>
          <p:spPr>
            <a:xfrm>
              <a:off x="731520" y="234468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任意多边形 5"/>
            <p:cNvSpPr/>
            <p:nvPr/>
          </p:nvSpPr>
          <p:spPr>
            <a:xfrm>
              <a:off x="558720" y="1784520"/>
              <a:ext cx="7997760" cy="560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探究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难点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)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：最后一句话表达了作者怎样的思想感情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"/>
          <p:cNvSpPr/>
          <p:nvPr/>
        </p:nvSpPr>
        <p:spPr>
          <a:xfrm>
            <a:off x="993600" y="376560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本文写出了黄河的雄伟壮观的气势和奇幻的魅力，抒发了作者对祖国大好河山的无比热爱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961920" y="253044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文写出了黄河的什么特点？抒发了作者什么样的情感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说作者写了几次观看黄河的景象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1984320" y="3800520"/>
            <a:ext cx="31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四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内容占位符 2"/>
          <p:cNvSpPr/>
          <p:nvPr/>
        </p:nvSpPr>
        <p:spPr>
          <a:xfrm>
            <a:off x="609480" y="1106640"/>
            <a:ext cx="78472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作者分别是在什么地方看到黄河的？看到的黄河分别是什么样子的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855720" y="2050920"/>
            <a:ext cx="7646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作者在风陵渡口眺望黄河，看到的是滚滚狂涛冲着巨大的冰排，天崩地裂，万雷轰鸣，一泻而下，感受到了黄河惊心动魄的气概。作者在兰州看到的黄河是安逸、平静的。作者在刘家峡看到的黄河是雄伟壮观的，作者由远到近看到了黄河的浩浩荡荡，雄劲豪迈，场景真有点惊人；无论是远望、仰望，还是俯瞰，刘家峡黄河都给人的视觉和心灵带来了震撼。在从乌鲁木齐返回北京的飞机上，在万米高空俯瞰到的是神奇的黄河：它像天宫的仙女无意间飘落的玉带，若明若暗，飘忽闪烁，弯弯曲曲，飘落凡尘，是黄河于惊涛骇浪之外的另一种境界，另一种奇幻的美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内容占位符 2"/>
          <p:cNvSpPr/>
          <p:nvPr/>
        </p:nvSpPr>
        <p:spPr>
          <a:xfrm>
            <a:off x="789120" y="1455840"/>
            <a:ext cx="764532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是怎样把黄河的不同风采写的具体生动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1"/>
          <p:cNvSpPr/>
          <p:nvPr/>
        </p:nvSpPr>
        <p:spPr>
          <a:xfrm>
            <a:off x="804960" y="2625840"/>
            <a:ext cx="75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7113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家刘白羽笔下的黄河气势磅礴、雄伟神奇。文中运用了比喻、夸张、排比等修辞手法，不断变换观察视角，呈现黄河在不同的角度下的不同风采，使读者如闻其声、如临其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内容占位符 2"/>
          <p:cNvSpPr/>
          <p:nvPr/>
        </p:nvSpPr>
        <p:spPr>
          <a:xfrm>
            <a:off x="790560" y="1701720"/>
            <a:ext cx="76453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悟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了课文，你对黄河有了怎样的印象？有什么感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1182600" y="273384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黄河气势雄伟，景象壮观，充满奔腾的力量和奇幻的魅力。读了课文我受到黄河的感染，浑身充满了力量，我对母亲河，对祖国的热爱之情更浓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1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2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3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TextBox 4"/>
          <p:cNvSpPr/>
          <p:nvPr/>
        </p:nvSpPr>
        <p:spPr>
          <a:xfrm>
            <a:off x="-178560" y="2236680"/>
            <a:ext cx="18262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黄河之水天上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左大括号 7"/>
          <p:cNvSpPr/>
          <p:nvPr/>
        </p:nvSpPr>
        <p:spPr>
          <a:xfrm>
            <a:off x="1422360" y="2443320"/>
            <a:ext cx="382680" cy="2768400"/>
          </a:xfrm>
          <a:custGeom>
            <a:avLst/>
            <a:gdLst>
              <a:gd name="textAreaLeft" fmla="*/ 244440 w 382680"/>
              <a:gd name="textAreaRight" fmla="*/ 383040 w 382680"/>
              <a:gd name="textAreaTop" fmla="*/ 9720 h 2768400"/>
              <a:gd name="textAreaBottom" fmla="*/ 2758680 h 276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551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5"/>
                  <a:pt x="10800" y="1104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1828800" y="2292480"/>
            <a:ext cx="49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965a"/>
                </a:solidFill>
                <a:latin typeface="黑体"/>
                <a:ea typeface="黑体"/>
              </a:rPr>
              <a:t>风陵渡口看到的黄河</a:t>
            </a:r>
            <a:r>
              <a:rPr b="1" lang="en-US" sz="20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965a"/>
                </a:solidFill>
                <a:latin typeface="黑体"/>
                <a:ea typeface="黑体"/>
              </a:rPr>
              <a:t>惊心动魄的气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1814400" y="2768760"/>
            <a:ext cx="42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965a"/>
                </a:solidFill>
                <a:latin typeface="黑体"/>
                <a:ea typeface="黑体"/>
              </a:rPr>
              <a:t>兰州看到的黄河</a:t>
            </a:r>
            <a:r>
              <a:rPr b="1" lang="en-US" sz="20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965a"/>
                </a:solidFill>
                <a:latin typeface="黑体"/>
                <a:ea typeface="黑体"/>
              </a:rPr>
              <a:t>太安逸、太平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1797120" y="356076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965a"/>
                </a:solidFill>
                <a:latin typeface="黑体"/>
                <a:ea typeface="黑体"/>
              </a:rPr>
              <a:t>刘家峡看到的黄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左大括号 13"/>
          <p:cNvSpPr/>
          <p:nvPr/>
        </p:nvSpPr>
        <p:spPr>
          <a:xfrm>
            <a:off x="3978360" y="3267000"/>
            <a:ext cx="347400" cy="943200"/>
          </a:xfrm>
          <a:custGeom>
            <a:avLst/>
            <a:gdLst>
              <a:gd name="textAreaLeft" fmla="*/ 222120 w 347400"/>
              <a:gd name="textAreaRight" fmla="*/ 347400 w 347400"/>
              <a:gd name="textAreaTop" fmla="*/ 9000 h 943200"/>
              <a:gd name="textAreaBottom" fmla="*/ 934200 h 9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2"/>
                  <a:pt x="10800" y="664"/>
                </a:cubicBezTo>
                <a:lnTo>
                  <a:pt x="10800" y="10136"/>
                </a:lnTo>
                <a:cubicBezTo>
                  <a:pt x="10800" y="10468"/>
                  <a:pt x="5400" y="10800"/>
                  <a:pt x="0" y="10800"/>
                </a:cubicBezTo>
                <a:cubicBezTo>
                  <a:pt x="5400" y="10800"/>
                  <a:pt x="10800" y="11132"/>
                  <a:pt x="10800" y="11464"/>
                </a:cubicBezTo>
                <a:lnTo>
                  <a:pt x="10800" y="20936"/>
                </a:lnTo>
                <a:cubicBezTo>
                  <a:pt x="10800" y="2126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4"/>
          <p:cNvSpPr/>
          <p:nvPr/>
        </p:nvSpPr>
        <p:spPr>
          <a:xfrm>
            <a:off x="4211640" y="3209760"/>
            <a:ext cx="26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原子弹爆炸的蘑菇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无数巨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1714680" y="4994280"/>
            <a:ext cx="261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965a"/>
                </a:solidFill>
                <a:latin typeface="黑体"/>
                <a:ea typeface="黑体"/>
              </a:rPr>
              <a:t>飞机上看到的黄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左大括号 16"/>
          <p:cNvSpPr/>
          <p:nvPr/>
        </p:nvSpPr>
        <p:spPr>
          <a:xfrm>
            <a:off x="3860640" y="4503600"/>
            <a:ext cx="384480" cy="1417680"/>
          </a:xfrm>
          <a:custGeom>
            <a:avLst/>
            <a:gdLst>
              <a:gd name="textAreaLeft" fmla="*/ 245520 w 384480"/>
              <a:gd name="textAreaRight" fmla="*/ 384840 w 384480"/>
              <a:gd name="textAreaTop" fmla="*/ 9720 h 1417680"/>
              <a:gd name="textAreaBottom" fmla="*/ 1407960 h 141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4"/>
                  <a:pt x="10800" y="488"/>
                </a:cubicBezTo>
                <a:lnTo>
                  <a:pt x="10800" y="10312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4"/>
                  <a:pt x="10800" y="11288"/>
                </a:cubicBezTo>
                <a:lnTo>
                  <a:pt x="10800" y="21112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4203720" y="4367160"/>
            <a:ext cx="227952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冰霜塑出的雪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忽明忽暗的长带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万千璎珞闪烁飘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利剑插过深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右大括号 18"/>
          <p:cNvSpPr/>
          <p:nvPr/>
        </p:nvSpPr>
        <p:spPr>
          <a:xfrm>
            <a:off x="6551640" y="3267000"/>
            <a:ext cx="341280" cy="908280"/>
          </a:xfrm>
          <a:custGeom>
            <a:avLst/>
            <a:gdLst>
              <a:gd name="textAreaLeft" fmla="*/ 0 w 341280"/>
              <a:gd name="textAreaRight" fmla="*/ 123120 w 341280"/>
              <a:gd name="textAreaTop" fmla="*/ 8640 h 908280"/>
              <a:gd name="textAreaBottom" fmla="*/ 899640 h 90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9"/>
                  <a:pt x="10800" y="677"/>
                </a:cubicBezTo>
                <a:lnTo>
                  <a:pt x="10800" y="10123"/>
                </a:lnTo>
                <a:cubicBezTo>
                  <a:pt x="10800" y="10462"/>
                  <a:pt x="16200" y="10800"/>
                  <a:pt x="21600" y="10800"/>
                </a:cubicBezTo>
                <a:cubicBezTo>
                  <a:pt x="16200" y="10800"/>
                  <a:pt x="10800" y="11139"/>
                  <a:pt x="10800" y="11477"/>
                </a:cubicBezTo>
                <a:lnTo>
                  <a:pt x="10800" y="20923"/>
                </a:lnTo>
                <a:cubicBezTo>
                  <a:pt x="10800" y="2126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右大括号 19"/>
          <p:cNvSpPr/>
          <p:nvPr/>
        </p:nvSpPr>
        <p:spPr>
          <a:xfrm>
            <a:off x="6483240" y="4489560"/>
            <a:ext cx="408240" cy="1431720"/>
          </a:xfrm>
          <a:custGeom>
            <a:avLst/>
            <a:gdLst>
              <a:gd name="textAreaLeft" fmla="*/ 0 w 408240"/>
              <a:gd name="textAreaRight" fmla="*/ 147240 w 408240"/>
              <a:gd name="textAreaTop" fmla="*/ 10440 h 1431720"/>
              <a:gd name="textAreaBottom" fmla="*/ 1421280 h 14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7"/>
                  <a:pt x="10800" y="513"/>
                </a:cubicBezTo>
                <a:lnTo>
                  <a:pt x="10800" y="10287"/>
                </a:lnTo>
                <a:cubicBezTo>
                  <a:pt x="10800" y="10544"/>
                  <a:pt x="16200" y="10800"/>
                  <a:pt x="21600" y="10800"/>
                </a:cubicBezTo>
                <a:cubicBezTo>
                  <a:pt x="16200" y="10800"/>
                  <a:pt x="10800" y="11057"/>
                  <a:pt x="10800" y="11313"/>
                </a:cubicBezTo>
                <a:lnTo>
                  <a:pt x="10800" y="21087"/>
                </a:lnTo>
                <a:cubicBezTo>
                  <a:pt x="10800" y="2134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21"/>
          <p:cNvSpPr/>
          <p:nvPr/>
        </p:nvSpPr>
        <p:spPr>
          <a:xfrm>
            <a:off x="6858000" y="35035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雄伟壮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22"/>
          <p:cNvSpPr/>
          <p:nvPr/>
        </p:nvSpPr>
        <p:spPr>
          <a:xfrm>
            <a:off x="6880320" y="4983120"/>
            <a:ext cx="18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梦幻奇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内容占位符 2"/>
          <p:cNvSpPr/>
          <p:nvPr/>
        </p:nvSpPr>
        <p:spPr>
          <a:xfrm>
            <a:off x="839880" y="2411280"/>
            <a:ext cx="74167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主要描写了在刘家峡和飞机上看黄河的不同感受，赞美了中华民族的母亲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黄河的磅礴气势和神奇风采，同时表达了作者对祖国大好河山的无比热爱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1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11080" y="238140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习“摘抄”这种写读书笔记的方法，积累品评文中的好词佳句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朗读，体会黄河的磅礴的气势和哺育中华民族的奉献精神，体会作者的感受，培养热爱祖国的思想感情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55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6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矩形 1"/>
          <p:cNvSpPr/>
          <p:nvPr/>
        </p:nvSpPr>
        <p:spPr>
          <a:xfrm>
            <a:off x="957240" y="178452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壶口瀑布（节选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梁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壶口在晋陕两省的边境上，我曾两次到过那里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第一次是雨季，临出发时有人告诫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:“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这个时节看壶口最危险，千万不要到河滩里去，赶巧上游下雨，一个洪峰下来，根本来不及上岸。”果然，车还在半山腰就听见涛声隐隐如雷，河谷里雾气弥漫，我们大着胆子下到滩里，那河就像一锅正沸着的水。壶口瀑布不是从高处落下，让人们仰视垂空的水幕，而是由平地向更低的沟里跌去，人们只能俯视被急急吸去的水流。现时，正是雨季，那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"/>
          <p:cNvSpPr/>
          <p:nvPr/>
        </p:nvSpPr>
        <p:spPr>
          <a:xfrm>
            <a:off x="868320" y="122724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已被灌得浪沫横溢，但上面的水还是一股劲地冲进去，冲进去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在雾中想寻找想象中的飞瀑，但水浸沟岸，雾罩乱石，除了扑面而来的水汽，震耳欲聋的涛声，什么也看不见，什么也听不见，只有一个可怕的警觉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仿佛突然就要出现一个洪峰将我吞没。于是，只急慌慌地扫了几眼，我便匆匆逃离，到了岸上回望那团白烟，心还在不住地跳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第二次看黄河，我专选了个枯水季节。春寒刚过，山还未青，谷底显得异常开阔。我们从从容容地下到沟底，这时的黄河像是一张极大的石床，上面铺了一层软软的细沙，踏上去坚实而又松软。我一直走到河心，原来河心还有一条河，是突然凹下去的一条深沟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"/>
          <p:cNvSpPr/>
          <p:nvPr/>
        </p:nvSpPr>
        <p:spPr>
          <a:xfrm>
            <a:off x="868320" y="122724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当地人叫“龙槽”，槽头入水处深不可测，这便是“壶口”。我倚在一块大石头上向上游看去，这龙槽顶着宽宽的河面，正好形成一个“丁”字。河水从五百米宽的河道上排排涌来，其势如千军万马互相挤着，撞着，推推搡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sǎng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搡，前呼后拥，撞向石壁，排排黄浪霎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shà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时碎成堆堆白雪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黄河在这里由宽而窄，由高到低，只见那平坦如席的大水像是被一个无形的大洞吸着，顿然拢成一束，向龙槽里隆隆冲去，先跌在石上，翻个身再跌下去，三跌、四跌，一川大水硬是这样被跌得粉碎，碎成点，碎成雾。从沟底升起一道彩虹，横跨龙槽，穿过雾霭，消失在远山青色的背景中。当然这么窄的壶口一时容不下这么多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1"/>
          <p:cNvSpPr/>
          <p:nvPr/>
        </p:nvSpPr>
        <p:spPr>
          <a:xfrm>
            <a:off x="868320" y="122724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水，于是洪流便向两边涌去，沿着龙槽的边沿轰然而下，平平的，大大的，浑厚庄重如一卷飞毯从空抖落。不，简直如一卷钢板出轧，的确有那种凝重，那种猛烈。尽管这样，壶口还是不能尽收这一川黄浪，于是又有一些各自夺路而走的，乘隙而进的，折返迂回的，它们在龙槽两边的滩壁上散开来，或钻石觅缝，汩汩如泉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或淌过石板，潺潺成溪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或被夹在石间，哀哀打漩。还有那顺壁挂下的，亮晶晶的如丝如缕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而这一切都隐在湿漉漉的水雾中，罩在七色彩虹中，像一曲交响乐，一幅写意画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1" descr=""/>
          <p:cNvPicPr/>
          <p:nvPr/>
        </p:nvPicPr>
        <p:blipFill>
          <a:blip r:embed="rId1"/>
          <a:stretch/>
        </p:blipFill>
        <p:spPr>
          <a:xfrm>
            <a:off x="231840" y="1859040"/>
            <a:ext cx="8736120" cy="4145040"/>
          </a:xfrm>
          <a:prstGeom prst="rect">
            <a:avLst/>
          </a:prstGeom>
          <a:ln w="0">
            <a:noFill/>
          </a:ln>
        </p:spPr>
      </p:pic>
      <p:sp>
        <p:nvSpPr>
          <p:cNvPr id="164" name="矩形 1"/>
          <p:cNvSpPr/>
          <p:nvPr/>
        </p:nvSpPr>
        <p:spPr>
          <a:xfrm>
            <a:off x="463680" y="2075040"/>
            <a:ext cx="8312040" cy="1922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黄河远上白云间，一片孤城万仞山。羌笛何须怨杨柳，春风不度玉门关。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凉州词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王之涣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白日依山尽，黄河入海流。欲穷千里目，更上一层楼。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登鹳雀楼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王之涣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君不见，黄河之水天上来，奔流到海不复回。君不见，高堂明镜悲白发，朝如青丝暮成雪。人生得意须尽欢，莫使金樽空对月。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将进酒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李白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66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70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矩形 1"/>
          <p:cNvSpPr/>
          <p:nvPr/>
        </p:nvSpPr>
        <p:spPr>
          <a:xfrm>
            <a:off x="1362960" y="2097000"/>
            <a:ext cx="9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俗语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2"/>
          <p:cNvSpPr/>
          <p:nvPr/>
        </p:nvSpPr>
        <p:spPr>
          <a:xfrm>
            <a:off x="1266840" y="2563920"/>
            <a:ext cx="70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跳进黄河洗不清：自己被冤枉了，就算跳进黄河都洗不清自己的冤屈，也可以形容无可奈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黄河水清：黄河水是浑的，想要变清澈几乎是不可能的，通常比喻事情非常罕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到黄河心不死：形容非常执着，抱着背水一战的态度做事，不达目的不罢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76" name="矩形 11"/>
          <p:cNvSpPr/>
          <p:nvPr/>
        </p:nvSpPr>
        <p:spPr>
          <a:xfrm>
            <a:off x="1017720" y="2268360"/>
            <a:ext cx="75117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描写了作者在刘家峡和飞机上看到黄河的不同感受，赞美了中华民族的母亲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黄河的磅礴气势和神奇风采，抒发了作者热爱祖国的强烈的思想感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-103320" y="835200"/>
            <a:ext cx="4303800" cy="1238040"/>
          </a:xfrm>
          <a:prstGeom prst="rect">
            <a:avLst/>
          </a:prstGeom>
          <a:ln w="0">
            <a:noFill/>
          </a:ln>
        </p:spPr>
      </p:pic>
      <p:sp>
        <p:nvSpPr>
          <p:cNvPr id="178" name="矩形 7"/>
          <p:cNvSpPr/>
          <p:nvPr/>
        </p:nvSpPr>
        <p:spPr>
          <a:xfrm>
            <a:off x="671400" y="1711440"/>
            <a:ext cx="766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读课文，说一说作者在刘家峡看到的黄河是什么样的，在从乌鲁木齐返回北京的飞机上看到的黄河又是什么样的。你能体会出作者不一样的感受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752400" y="3327480"/>
            <a:ext cx="768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参考答案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在刘家峡看到的黄河是雄伟壮观的，作者由远到近看到了黄河的浩浩荡荡，雄劲豪迈，场景真有点惊人；无论是远望、仰望，还是俯瞰，刘家峡黄河都令作者感到吃惊，给人的视觉和心灵带来了震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735120" y="3451320"/>
            <a:ext cx="783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从乌鲁木齐返回北京的飞机上，在万米高空俯瞰到的是神奇的黄河：它像天宫的仙女无意间飘落的玉带，若明若暗，飘忽闪烁，弯弯曲曲，飘落凡尘。是黄河于惊涛骇浪之外的另一种境界，另一种奇幻的美，令作者发出了由衷的赞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7"/>
          <p:cNvSpPr/>
          <p:nvPr/>
        </p:nvSpPr>
        <p:spPr>
          <a:xfrm>
            <a:off x="971640" y="1131840"/>
            <a:ext cx="74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文激荡着一股磅礴的气势，从课文里画出几个描写这种气势的词句，边读边体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1333440" y="2325600"/>
            <a:ext cx="70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点拨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找出描写磅礴气势的词句后，要在理解的基础上，边读边想象，将文字转化成画面来体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课文中描写黄河气势磅礴的词语有很多，如：天崩地裂、万雷轰鸣、汹涌澎湃、呼啸苍天、排挞岩谷、惊涛骇浪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句子如：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我看到的是什么？如乌云乱卷，如怒火，如狂飙。这些乌云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巍然不动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我到坝顶俯视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汹涌澎湃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等，这些词句不仅生动形象地描绘出黄河的雄壮豪迈，气势恢宏，而且极大地激发了读者一睹黄河雄姿的兴趣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4" name="矩形 19"/>
          <p:cNvSpPr/>
          <p:nvPr/>
        </p:nvSpPr>
        <p:spPr>
          <a:xfrm>
            <a:off x="1554120" y="2084400"/>
            <a:ext cx="7035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给加点字注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细雨濛濛　　　　　　风陵渡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巍然不动　　　　　　烟雾缭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7168"/>
          <p:cNvSpPr/>
          <p:nvPr/>
        </p:nvSpPr>
        <p:spPr>
          <a:xfrm>
            <a:off x="2209680" y="3524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7168"/>
          <p:cNvSpPr/>
          <p:nvPr/>
        </p:nvSpPr>
        <p:spPr>
          <a:xfrm>
            <a:off x="4997160" y="3500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7168"/>
          <p:cNvSpPr/>
          <p:nvPr/>
        </p:nvSpPr>
        <p:spPr>
          <a:xfrm>
            <a:off x="1579320" y="4622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7168"/>
          <p:cNvSpPr/>
          <p:nvPr/>
        </p:nvSpPr>
        <p:spPr>
          <a:xfrm>
            <a:off x="5283000" y="461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24"/>
          <p:cNvSpPr/>
          <p:nvPr/>
        </p:nvSpPr>
        <p:spPr>
          <a:xfrm>
            <a:off x="1909080" y="281952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</a:rPr>
              <a:t>mé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25"/>
          <p:cNvSpPr/>
          <p:nvPr/>
        </p:nvSpPr>
        <p:spPr>
          <a:xfrm>
            <a:off x="4809240" y="280836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</a:rPr>
              <a:t>lí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26"/>
          <p:cNvSpPr/>
          <p:nvPr/>
        </p:nvSpPr>
        <p:spPr>
          <a:xfrm>
            <a:off x="1473120" y="3925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</a:rPr>
              <a:t>wē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27"/>
          <p:cNvSpPr/>
          <p:nvPr/>
        </p:nvSpPr>
        <p:spPr>
          <a:xfrm>
            <a:off x="5105160" y="3925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</a:rPr>
              <a:t>liá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4" name="圆角矩形 4"/>
            <p:cNvSpPr/>
            <p:nvPr/>
          </p:nvSpPr>
          <p:spPr>
            <a:xfrm>
              <a:off x="600120" y="3876480"/>
              <a:ext cx="3207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读课文，说说作者写了几次观看黄河的景象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圆角矩形 5"/>
            <p:cNvSpPr/>
            <p:nvPr/>
          </p:nvSpPr>
          <p:spPr>
            <a:xfrm>
              <a:off x="5224320" y="3889440"/>
              <a:ext cx="34560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作者分别是在什么地方看到黄河的？看到的黄河分别是什么样子的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6"/>
            <p:cNvSpPr/>
            <p:nvPr/>
          </p:nvSpPr>
          <p:spPr>
            <a:xfrm>
              <a:off x="5211720" y="5215320"/>
              <a:ext cx="3468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悟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读了课文，你对黄河有了怎样的印象？有什么感受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7"/>
            <p:cNvSpPr/>
            <p:nvPr/>
          </p:nvSpPr>
          <p:spPr>
            <a:xfrm>
              <a:off x="600120" y="5214240"/>
              <a:ext cx="3207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作者是怎样把黄河的不同风采写的具体生动的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79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矩形 1"/>
              <p:cNvSpPr/>
              <p:nvPr/>
            </p:nvSpPr>
            <p:spPr>
              <a:xfrm>
                <a:off x="2557440" y="1770480"/>
                <a:ext cx="4102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本文写出了黄河的什么特点？抒发了作者什么样的情感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矩形 2"/>
              <p:cNvSpPr/>
              <p:nvPr/>
            </p:nvSpPr>
            <p:spPr>
              <a:xfrm>
                <a:off x="4910400" y="1335600"/>
                <a:ext cx="29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壮观、神奇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3995640" y="24145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749600" y="241452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矩形 17"/>
          <p:cNvSpPr/>
          <p:nvPr/>
        </p:nvSpPr>
        <p:spPr>
          <a:xfrm>
            <a:off x="1749600" y="1346040"/>
            <a:ext cx="7221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读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tiào wàng               shān luán              dà   b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jīng  yà                    mó   gu                hào dà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bǔ   yù                    shī zhǎn                yì   ch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20"/>
          <p:cNvSpPr/>
          <p:nvPr/>
        </p:nvSpPr>
        <p:spPr>
          <a:xfrm>
            <a:off x="1966680" y="2457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眺 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21"/>
          <p:cNvSpPr/>
          <p:nvPr/>
        </p:nvSpPr>
        <p:spPr>
          <a:xfrm>
            <a:off x="4211280" y="2463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 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227640" y="242568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矩形 23"/>
          <p:cNvSpPr/>
          <p:nvPr/>
        </p:nvSpPr>
        <p:spPr>
          <a:xfrm>
            <a:off x="6443280" y="2475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 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98880" y="35067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752480" y="35067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矩形 28"/>
          <p:cNvSpPr/>
          <p:nvPr/>
        </p:nvSpPr>
        <p:spPr>
          <a:xfrm>
            <a:off x="1969920" y="3549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惊 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29"/>
          <p:cNvSpPr/>
          <p:nvPr/>
        </p:nvSpPr>
        <p:spPr>
          <a:xfrm>
            <a:off x="4214520" y="35560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蘑 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230880" y="35179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矩形 31"/>
          <p:cNvSpPr/>
          <p:nvPr/>
        </p:nvSpPr>
        <p:spPr>
          <a:xfrm>
            <a:off x="6446520" y="35672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浩 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998880" y="46101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752480" y="46101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矩形 34"/>
          <p:cNvSpPr/>
          <p:nvPr/>
        </p:nvSpPr>
        <p:spPr>
          <a:xfrm>
            <a:off x="1969920" y="4653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哺 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35"/>
          <p:cNvSpPr/>
          <p:nvPr/>
        </p:nvSpPr>
        <p:spPr>
          <a:xfrm>
            <a:off x="4214520" y="4659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施 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230880" y="46213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矩形 37"/>
          <p:cNvSpPr/>
          <p:nvPr/>
        </p:nvSpPr>
        <p:spPr>
          <a:xfrm>
            <a:off x="6446520" y="467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溢 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16"/>
          <p:cNvSpPr/>
          <p:nvPr/>
        </p:nvSpPr>
        <p:spPr>
          <a:xfrm>
            <a:off x="938160" y="115416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补充词语，并根据意思选词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霁  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浪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仞 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形容使人感受很深，震动很大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下过纷飞的雨后刚刚转晴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高而险的山岩如墙壁一样耸立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形容山非常高，跟天接触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9"/>
          <p:cNvSpPr/>
          <p:nvPr/>
        </p:nvSpPr>
        <p:spPr>
          <a:xfrm>
            <a:off x="2203200" y="1814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20"/>
          <p:cNvSpPr/>
          <p:nvPr/>
        </p:nvSpPr>
        <p:spPr>
          <a:xfrm>
            <a:off x="3282840" y="1814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21"/>
          <p:cNvSpPr/>
          <p:nvPr/>
        </p:nvSpPr>
        <p:spPr>
          <a:xfrm>
            <a:off x="4651200" y="1814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22"/>
          <p:cNvSpPr/>
          <p:nvPr/>
        </p:nvSpPr>
        <p:spPr>
          <a:xfrm>
            <a:off x="5731560" y="1814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23"/>
          <p:cNvSpPr/>
          <p:nvPr/>
        </p:nvSpPr>
        <p:spPr>
          <a:xfrm>
            <a:off x="1878840" y="2373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24"/>
          <p:cNvSpPr/>
          <p:nvPr/>
        </p:nvSpPr>
        <p:spPr>
          <a:xfrm>
            <a:off x="2971080" y="2373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25"/>
          <p:cNvSpPr/>
          <p:nvPr/>
        </p:nvSpPr>
        <p:spPr>
          <a:xfrm>
            <a:off x="4651200" y="2373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26"/>
          <p:cNvSpPr/>
          <p:nvPr/>
        </p:nvSpPr>
        <p:spPr>
          <a:xfrm>
            <a:off x="5731560" y="2373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27"/>
          <p:cNvSpPr/>
          <p:nvPr/>
        </p:nvSpPr>
        <p:spPr>
          <a:xfrm>
            <a:off x="1878840" y="2919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28"/>
          <p:cNvSpPr/>
          <p:nvPr/>
        </p:nvSpPr>
        <p:spPr>
          <a:xfrm>
            <a:off x="2971080" y="2919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29"/>
          <p:cNvSpPr/>
          <p:nvPr/>
        </p:nvSpPr>
        <p:spPr>
          <a:xfrm>
            <a:off x="4344840" y="2919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30"/>
          <p:cNvSpPr/>
          <p:nvPr/>
        </p:nvSpPr>
        <p:spPr>
          <a:xfrm>
            <a:off x="5886360" y="2919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31"/>
          <p:cNvSpPr/>
          <p:nvPr/>
        </p:nvSpPr>
        <p:spPr>
          <a:xfrm>
            <a:off x="6189120" y="346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惊心动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32"/>
          <p:cNvSpPr/>
          <p:nvPr/>
        </p:nvSpPr>
        <p:spPr>
          <a:xfrm>
            <a:off x="5569200" y="4014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霏雨初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33"/>
          <p:cNvSpPr/>
          <p:nvPr/>
        </p:nvSpPr>
        <p:spPr>
          <a:xfrm>
            <a:off x="6201720" y="4575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巉岩壁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34"/>
          <p:cNvSpPr/>
          <p:nvPr/>
        </p:nvSpPr>
        <p:spPr>
          <a:xfrm>
            <a:off x="5580360" y="500868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万仞摩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7"/>
          <p:cNvSpPr/>
          <p:nvPr/>
        </p:nvSpPr>
        <p:spPr>
          <a:xfrm>
            <a:off x="971640" y="1557360"/>
            <a:ext cx="756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这情景让人惊叹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为反问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阳光照亮了大地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扩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8"/>
          <p:cNvSpPr/>
          <p:nvPr/>
        </p:nvSpPr>
        <p:spPr>
          <a:xfrm>
            <a:off x="1476360" y="276876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情景怎能不让人惊叹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9"/>
          <p:cNvSpPr/>
          <p:nvPr/>
        </p:nvSpPr>
        <p:spPr>
          <a:xfrm>
            <a:off x="1511280" y="3851280"/>
            <a:ext cx="70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阳光从上面像千万道聚光灯照亮了深褐色的大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3"/>
          <p:cNvSpPr/>
          <p:nvPr/>
        </p:nvSpPr>
        <p:spPr>
          <a:xfrm>
            <a:off x="674640" y="1916280"/>
            <a:ext cx="756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写出下面各句主要运用的修辞手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你用甘甜的乳汁，哺育各族儿女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长江向东奔腾而去，像一个奔跑的巨人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我们怎能不赞美长江呢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狂风呼啸，长江掀起万丈波澜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1"/>
          <p:cNvSpPr/>
          <p:nvPr/>
        </p:nvSpPr>
        <p:spPr>
          <a:xfrm>
            <a:off x="6311520" y="2587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拟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4"/>
          <p:cNvSpPr/>
          <p:nvPr/>
        </p:nvSpPr>
        <p:spPr>
          <a:xfrm>
            <a:off x="7197480" y="312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5"/>
          <p:cNvSpPr/>
          <p:nvPr/>
        </p:nvSpPr>
        <p:spPr>
          <a:xfrm>
            <a:off x="5052600" y="36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反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7"/>
          <p:cNvSpPr/>
          <p:nvPr/>
        </p:nvSpPr>
        <p:spPr>
          <a:xfrm>
            <a:off x="6036840" y="41068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夸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1077840" y="1825560"/>
            <a:ext cx="71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雨濛濛的秋天，我从北京去兰州，在那里看到了黄河。不过，说实在话，兰州的黄河令我失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1187280" y="3413160"/>
            <a:ext cx="69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两句为下文描写在刘家峡看到的黄河的雄伟壮观做了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铺垫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2"/>
          <p:cNvSpPr/>
          <p:nvPr/>
        </p:nvSpPr>
        <p:spPr>
          <a:xfrm>
            <a:off x="704880" y="1133640"/>
            <a:ext cx="78487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黄河在我的记忆中永远是奔腾呼啸的激流啊！第一次给我的印象特别深，那是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年前了，我从风陵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(líng)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渡口眺望黄河，滚滚狂涛冲着巨大的冰排，天崩地裂，万雷轰鸣，一泻而下，那是何等惊心动魄的气概呀！而今天，兰州的黄河未免太安逸、太平静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3"/>
          <p:cNvGrpSpPr/>
          <p:nvPr/>
        </p:nvGrpSpPr>
        <p:grpSpPr>
          <a:xfrm>
            <a:off x="830160" y="3790800"/>
            <a:ext cx="7726320" cy="559080"/>
            <a:chOff x="830160" y="3790800"/>
            <a:chExt cx="7726320" cy="559080"/>
          </a:xfrm>
        </p:grpSpPr>
        <p:sp>
          <p:nvSpPr>
            <p:cNvPr id="87" name="直接连接符 4"/>
            <p:cNvSpPr/>
            <p:nvPr/>
          </p:nvSpPr>
          <p:spPr>
            <a:xfrm>
              <a:off x="830160" y="434988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任意多边形 5"/>
            <p:cNvSpPr/>
            <p:nvPr/>
          </p:nvSpPr>
          <p:spPr>
            <a:xfrm>
              <a:off x="873000" y="3790800"/>
              <a:ext cx="7683480" cy="55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兰州黄河为什么让“我”失望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1"/>
          <p:cNvSpPr/>
          <p:nvPr/>
        </p:nvSpPr>
        <p:spPr>
          <a:xfrm>
            <a:off x="762120" y="4432320"/>
            <a:ext cx="7794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82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在作者的记忆中，黄河是雄壮豪迈、排山倒海的奇观，而兰州的黄河却安逸而平静。作者印象中奔流呼啸的黄河与兰州段黄河的安逸平静形成了鲜明的</a:t>
            </a:r>
            <a:r>
              <a:rPr b="1" lang="zh-CN" sz="2200" spc="-1" strike="noStrike" u="sng">
                <a:solidFill>
                  <a:srgbClr val="ff00ff"/>
                </a:solidFill>
                <a:uFillTx/>
                <a:latin typeface="宋体"/>
              </a:rPr>
              <a:t>对比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所以有些失望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"/>
          <p:cNvSpPr/>
          <p:nvPr/>
        </p:nvSpPr>
        <p:spPr>
          <a:xfrm>
            <a:off x="1065240" y="1428840"/>
            <a:ext cx="73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非常惊讶，天上晴空万里，哪儿来的暴雨狂风呢？我下车转身一看，怔住了：我看到的是什么？如乌云乱卷，如怒火，如狂飙。这些乌云先是从下面向上喷射，喷到半空，又跌落下来，化成茫茫银雾；一卷卷银雾，被阳光照得闪亮，又飞上高空；乌云白雾，上下翻腾，如浓墨，如淡墨，像原子弹爆炸的蘑菇云，直耸高空，巍然不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4"/>
          <p:cNvSpPr/>
          <p:nvPr/>
        </p:nvSpPr>
        <p:spPr>
          <a:xfrm>
            <a:off x="874800" y="2430360"/>
            <a:ext cx="746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几句话描绘了刘家峡黄河的雄伟壮观。以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设问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提起，更加突出了黄河之壮观给人心灵带来的震撼。“如”字的连用，强调了黄河气势的雷霆万钧，接着对其形状、颜色进行了细致生动的描绘，表现了黄河水势之壮观、威力之宏大犹如原子弹爆炸一般，极其形象生动地描绘了黄河的雄伟气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组合 5"/>
          <p:cNvGrpSpPr/>
          <p:nvPr/>
        </p:nvGrpSpPr>
        <p:grpSpPr>
          <a:xfrm>
            <a:off x="776160" y="1677960"/>
            <a:ext cx="7726320" cy="558720"/>
            <a:chOff x="776160" y="1677960"/>
            <a:chExt cx="7726320" cy="558720"/>
          </a:xfrm>
        </p:grpSpPr>
        <p:sp>
          <p:nvSpPr>
            <p:cNvPr id="93" name="直接连接符 6"/>
            <p:cNvSpPr/>
            <p:nvPr/>
          </p:nvSpPr>
          <p:spPr>
            <a:xfrm>
              <a:off x="776160" y="223668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任意多边形 7"/>
            <p:cNvSpPr/>
            <p:nvPr/>
          </p:nvSpPr>
          <p:spPr>
            <a:xfrm>
              <a:off x="819000" y="167796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重点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)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：这几句话写了什么内容？在文中的作用是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4"/>
          <p:cNvSpPr/>
          <p:nvPr/>
        </p:nvSpPr>
        <p:spPr>
          <a:xfrm>
            <a:off x="720720" y="3138480"/>
            <a:ext cx="799956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这是从坝顶俯视的黄河全景。运用了生动的</a:t>
            </a:r>
            <a:r>
              <a:rPr b="1" lang="zh-CN" sz="2100" spc="-1" strike="noStrike" u="sng">
                <a:solidFill>
                  <a:srgbClr val="ff00ff"/>
                </a:solidFill>
                <a:uFillTx/>
                <a:latin typeface="宋体"/>
              </a:rPr>
              <a:t>比喻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，一个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“扭”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字，形象地描绘出黄河水打着巨大的漩涡倾泻而下的壮观场面。其水量之大，水流之急，以至于由于剧烈撞击产生的浪头竟高过了岸上的山头！激流与浓雾飞旋而下，波浪互相撞击，猛烈地向上涌起，向前翻滚，其势浩荡，其状汹涌，其神雄劲。三个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“远去”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连用，抒发了“大河东去，大浪淘沙”的豪迈情怀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720720" y="1117440"/>
            <a:ext cx="783288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我到坝顶俯视，才看清黄河有如无数巨龙</a:t>
            </a:r>
            <a:r>
              <a:rPr b="1" lang="zh-CN" sz="2100" spc="-1" strike="noStrike">
                <a:solidFill>
                  <a:srgbClr val="0070c0"/>
                </a:solidFill>
                <a:latin typeface="楷体"/>
                <a:ea typeface="楷体"/>
              </a:rPr>
              <a:t>扭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在一起飞旋而下，在窄窄的两山之间，它咆哮，它奔腾，冲起的雪白浪头竟比岸上的山头还高；是激流，是浓雾，旋卷在一起，浩浩荡荡，汹涌澎湃。</a:t>
            </a:r>
            <a:r>
              <a:rPr b="1" lang="zh-CN" sz="2100" spc="-1" strike="noStrike">
                <a:solidFill>
                  <a:srgbClr val="0070c0"/>
                </a:solidFill>
                <a:latin typeface="楷体"/>
                <a:ea typeface="楷体"/>
              </a:rPr>
              <a:t>远去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2100" spc="-1" strike="noStrike">
                <a:solidFill>
                  <a:srgbClr val="0070c0"/>
                </a:solidFill>
                <a:latin typeface="楷体"/>
                <a:ea typeface="楷体"/>
              </a:rPr>
              <a:t>远去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2100" spc="-1" strike="noStrike">
                <a:solidFill>
                  <a:srgbClr val="0070c0"/>
                </a:solidFill>
                <a:latin typeface="楷体"/>
                <a:ea typeface="楷体"/>
              </a:rPr>
              <a:t>再远去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，整个黄河都为白烟银雾所笼罩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云形 5"/>
          <p:cNvGrpSpPr/>
          <p:nvPr/>
        </p:nvGrpSpPr>
        <p:grpSpPr>
          <a:xfrm>
            <a:off x="7534440" y="2401920"/>
            <a:ext cx="1512720" cy="987480"/>
            <a:chOff x="7534440" y="2401920"/>
            <a:chExt cx="1512720" cy="987480"/>
          </a:xfrm>
        </p:grpSpPr>
        <p:pic>
          <p:nvPicPr>
            <p:cNvPr id="98" name="云形 5" descr=""/>
            <p:cNvPicPr/>
            <p:nvPr/>
          </p:nvPicPr>
          <p:blipFill>
            <a:blip r:embed="rId1"/>
            <a:stretch/>
          </p:blipFill>
          <p:spPr>
            <a:xfrm>
              <a:off x="7534440" y="2401920"/>
              <a:ext cx="15127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974720" y="2630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比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"/>
          <p:cNvSpPr/>
          <p:nvPr/>
        </p:nvSpPr>
        <p:spPr>
          <a:xfrm>
            <a:off x="885960" y="1674720"/>
            <a:ext cx="768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积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了文中描述的景象，我不禁想起了描写黄河的诗句：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”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图片 24" descr="花盆.png"/>
          <p:cNvPicPr/>
          <p:nvPr/>
        </p:nvPicPr>
        <p:blipFill>
          <a:blip r:embed="rId1"/>
          <a:stretch/>
        </p:blipFill>
        <p:spPr>
          <a:xfrm>
            <a:off x="642960" y="182880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102" name="矩形 2"/>
          <p:cNvSpPr/>
          <p:nvPr/>
        </p:nvSpPr>
        <p:spPr>
          <a:xfrm>
            <a:off x="1511280" y="2789280"/>
            <a:ext cx="68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黄河之水天上来，奔流到海不复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组合 3"/>
          <p:cNvGrpSpPr/>
          <p:nvPr/>
        </p:nvGrpSpPr>
        <p:grpSpPr>
          <a:xfrm>
            <a:off x="5259240" y="3714840"/>
            <a:ext cx="3683160" cy="2717640"/>
            <a:chOff x="5259240" y="3714840"/>
            <a:chExt cx="3683160" cy="2717640"/>
          </a:xfrm>
        </p:grpSpPr>
        <p:pic>
          <p:nvPicPr>
            <p:cNvPr id="104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259240" y="3714840"/>
              <a:ext cx="3683160" cy="27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矩形 1"/>
            <p:cNvSpPr/>
            <p:nvPr/>
          </p:nvSpPr>
          <p:spPr>
            <a:xfrm>
              <a:off x="5549040" y="3915000"/>
              <a:ext cx="24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说出更多这样的诗句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30T11:13:26Z</dcterms:modified>
  <cp:revision>4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